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2CA-2678-4F1B-AEF2-E47705A5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9C4-67A9-4772-BB76-1D0A804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C6D-E050-425B-A533-D84AA58B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5C1-4CD1-483E-9B01-8CC3D9A6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98C-8490-470C-8934-D987231F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6D1-6A01-4967-A6B7-73BF7C2C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0FC-BA76-4DBE-B41F-9B995B48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653-35B4-4BB4-B218-14BD8C57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417-2675-43D8-A786-66BC7880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F43-17AD-4324-A70D-56AE688C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84-2D7D-4160-A57A-74A6A071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7CC-28D6-4BC8-A272-3AFA038B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CFD-0863-4C3C-A4C7-D31919F2444E}" type="datetime">
              <a:rPr b="0" lang="en-US" sz="1400" spc="-1" strike="noStrike">
                <a:solidFill>
                  <a:srgbClr val="775f55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F3D-008E-4465-9A55-65C87E39562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Borer Insects of Sugarcan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fe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80" name="Content Placeholder 3" descr="stem borer.jpg"/>
          <p:cNvPicPr/>
          <p:nvPr/>
        </p:nvPicPr>
        <p:blipFill>
          <a:blip r:embed="rId1"/>
          <a:stretch/>
        </p:blipFill>
        <p:spPr>
          <a:xfrm>
            <a:off x="1523880" y="1523880"/>
            <a:ext cx="6019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Root Borer of Sugarc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.N</a:t>
            </a: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:             Emmalocera depressel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amily:                            Pyralid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Order:                        Lipedopter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Identification Characte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21333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is the creamy white in color with dark brown/black head and wrikled body and also cause the damag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e adults are of brown color and have white hind wing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ot Borer of Sugerc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92" name="Content Placeholder 6" descr="larvae root borer.jpg"/>
          <p:cNvPicPr/>
          <p:nvPr/>
        </p:nvPicPr>
        <p:blipFill>
          <a:blip r:embed="rId1"/>
          <a:stretch/>
        </p:blipFill>
        <p:spPr>
          <a:xfrm>
            <a:off x="685800" y="2514600"/>
            <a:ext cx="327672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7" descr="adult root borer.jpg"/>
          <p:cNvPicPr/>
          <p:nvPr/>
        </p:nvPicPr>
        <p:blipFill>
          <a:blip r:embed="rId2"/>
          <a:stretch/>
        </p:blipFill>
        <p:spPr>
          <a:xfrm>
            <a:off x="5619600" y="3386160"/>
            <a:ext cx="2248200" cy="168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Larv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Adul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fe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97" name="Content Placeholder 3" descr="root borer.jpg"/>
          <p:cNvPicPr/>
          <p:nvPr/>
        </p:nvPicPr>
        <p:blipFill>
          <a:blip r:embed="rId1"/>
          <a:stretch/>
        </p:blipFill>
        <p:spPr>
          <a:xfrm>
            <a:off x="1676520" y="1371600"/>
            <a:ext cx="6172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5840" y="160020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75f55"/>
                </a:solidFill>
                <a:latin typeface="Viner Hand ITC"/>
              </a:rPr>
              <a:t>Thanks</a:t>
            </a:r>
            <a:endParaRPr b="0" lang="en-US" sz="9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Sugarcane Top Borer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.N</a:t>
            </a: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:               Scirpophaga nivel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amily:                         Pyralid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Order:                     Lipedopter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Identification characte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is the Creamy or Yellowish-white in color and cause the damag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Adults are pure white in color and female has a reddish tuft hair at the end of abdomen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over-winter/hibernate in the tops of cane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p Borer of Sugerc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6" name="Content Placeholder 6" descr="cremy yellowsh larvae.jpg"/>
          <p:cNvPicPr/>
          <p:nvPr/>
        </p:nvPicPr>
        <p:blipFill>
          <a:blip r:embed="rId1"/>
          <a:stretch/>
        </p:blipFill>
        <p:spPr>
          <a:xfrm>
            <a:off x="1371600" y="326232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7" descr="adult.jpg"/>
          <p:cNvPicPr/>
          <p:nvPr/>
        </p:nvPicPr>
        <p:blipFill>
          <a:blip r:embed="rId2"/>
          <a:stretch/>
        </p:blipFill>
        <p:spPr>
          <a:xfrm>
            <a:off x="4876920" y="2438280"/>
            <a:ext cx="3733560" cy="327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Larv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Adul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Fema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1" name="Content Placeholder 3" descr="female red tuft.jpg"/>
          <p:cNvPicPr/>
          <p:nvPr/>
        </p:nvPicPr>
        <p:blipFill>
          <a:blip r:embed="rId1"/>
          <a:stretch/>
        </p:blipFill>
        <p:spPr>
          <a:xfrm>
            <a:off x="1981080" y="1447920"/>
            <a:ext cx="5791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fe Cyc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3" name="Content Placeholder 3" descr="top borer.jpg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Stem Borer of Sugarc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.N: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w Cen MT"/>
              </a:rPr>
              <a:t>Chilo infuscatellu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amily:                      Pyralid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Order:                   Lipedopter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1440" y="6053040"/>
            <a:ext cx="224316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dc3"/>
                </a:solidFill>
                <a:latin typeface="Times New Roman"/>
              </a:rPr>
              <a:t>Identification Character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47920" y="17521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is the dirty white in color having 5 doted black longitudinal stripes on the body and cause the damage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Adults have forewings of straw color and hind wings whitish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Larvae over-winter in the stubles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em Borer of Sugerc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5" name="Content Placeholder 6" descr="stem larvae.jpg"/>
          <p:cNvPicPr/>
          <p:nvPr/>
        </p:nvPicPr>
        <p:blipFill>
          <a:blip r:embed="rId1"/>
          <a:stretch/>
        </p:blipFill>
        <p:spPr>
          <a:xfrm>
            <a:off x="457200" y="2514600"/>
            <a:ext cx="3809880" cy="3505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7" descr="adult stem borer.png"/>
          <p:cNvPicPr/>
          <p:nvPr/>
        </p:nvPicPr>
        <p:blipFill>
          <a:blip r:embed="rId2"/>
          <a:stretch/>
        </p:blipFill>
        <p:spPr>
          <a:xfrm>
            <a:off x="5602320" y="3251160"/>
            <a:ext cx="2627280" cy="2006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Larva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w Cen MT"/>
              </a:rPr>
              <a:t>Adul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21:51:00Z</dcterms:created>
  <dc:creator>Aqeel Haider</dc:creator>
  <dc:description/>
  <cp:keywords/>
  <dc:language>en-US</dc:language>
  <cp:lastModifiedBy>Dr Sajjad</cp:lastModifiedBy>
  <dcterms:modified xsi:type="dcterms:W3CDTF">2016-12-19T10:10:20Z</dcterms:modified>
  <cp:revision>8</cp:revision>
  <dc:subject/>
  <dc:title>Sugercane Top Bor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56</vt:lpwstr>
  </property>
</Properties>
</file>